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615-DB19-46A0-96ED-2DCD7335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cution of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remburg La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935 deprived Jews of all rights of citize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38, 25% of German Jews had emigrated (many were the "cream of the crop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“The Night of Broken Glass”) --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-organized wave of violence destroyed homes, synagogues, and busi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Jews were arrested and made to pay for th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ocau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6 million European Jews eventually killed during WWII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Final Solution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ictims of persecution included Slavs, Gypsies, Jehovah’s Witnesses, communists, homosexuals, mentally and physically handicapped, and political opponents (totaled 6 million by 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856-3D4B-4A96-A264-AB5D1228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9F4-04D0-442B-8A81-DC905CA3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494-EAA9-4AD9-8315-2E460CC4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DD0-820E-47E4-BFA5-818DEB2E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812-9396-44CE-8F28-D5B5E57E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423-39F9-4B76-8EC4-404DC18E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585-9768-4DD2-8D4F-2002B391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93B-30C5-4C84-8736-D1558CCE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2F7-A71C-47E7-8867-061623AD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CE8-60C6-4899-8999-94B6C79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995-5724-452A-A5A0-9717551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489-F485-492C-ACA8-1376CC4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D649-5668-4166-9529-687ADF5F4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place.com/worldwar2/holocaust/h-statistics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discoveryeducation.com/index.cfm?guidAssetId=3DFB93EC-03CA-46D6-80B3-EA61EB85A659&amp;blnFromSearch=1&amp;productcode=US" TargetMode="External"/><Relationship Id="rId3" Type="http://schemas.openxmlformats.org/officeDocument/2006/relationships/hyperlink" Target="http://player.discoveryeducation.com/index.cfm?guidAssetId=D70DB56E-92CC-4B21-8AC6-DACFC230EF69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discoveryeducation.com/index.cfm?guidAssetId=3DFB93EC-03CA-46D6-80B3-EA61EB85A659&amp;blnFromSearch=1&amp;productcode=U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, Events, &amp;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14600" y="939960"/>
            <a:ext cx="516888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47600"/>
            <a:ext cx="4340520" cy="31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676520" y="4476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matoria at Majd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91120" y="3638520"/>
            <a:ext cx="462744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2739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nce to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2890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095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ave Labor at Buchenw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05120" y="1066680"/>
            <a:ext cx="6248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212760"/>
            <a:ext cx="800100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Horrors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s Graves at Bergen-Be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5181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story Place - Holocaus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76320"/>
            <a:ext cx="75438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80000"/>
                </a:solidFill>
                <a:latin typeface="Comic Sans MS"/>
              </a:rPr>
              <a:t>The Nuremberg War Trials:</a:t>
            </a:r>
            <a:br>
              <a:rPr sz="3800"/>
            </a:br>
            <a:r>
              <a:rPr b="1" i="1" lang="en-US" sz="3400" spc="-1" strike="noStrike">
                <a:solidFill>
                  <a:srgbClr val="d80000"/>
                </a:solidFill>
                <a:latin typeface="Comic Sans MS"/>
              </a:rPr>
              <a:t>Crimes Against Huma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52480" y="1422360"/>
            <a:ext cx="655344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itler Comes to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gregation and Persecution of the J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s not one of them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irst they came for the Communists but I was not a Communist so I did not speak out; Then they came for the Socialists and Trade Unionists but I was not one of them, so I did not speak out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ame for the Jews but I was not Jewish, so I did not Speak out. And when they came for me, there was no one left to speak out for m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Niemoller 1892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iti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uremburg Law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f 1935 deprived Jews of all rights of citize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1938, 25% of German Jews had emigrated (many were the "cream of the crop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“The Night of Broken Glass”) --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ll-organized wave of violence destroyed homes, synagogues, and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ousands of Jews were arrested and made to pay for the damag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Semitic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2080" y="559908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EDUCATION REMOVING JEWISH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40796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, lured by go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tand disgraced in Judah's f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ls poisoned, blood infect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ter broods in their wom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56160" y="1789200"/>
            <a:ext cx="458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toon shows a Jew politely asking for room on the bench, after which he shoves the previous inhabitant off. The poem notes that Jews behave the same way in other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8640" y="110340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not worth l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does not resist the para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satisfied as it creeps ab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and will w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63800" y="26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Concentration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 the Concentration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1:11:52Z</dcterms:created>
  <dc:creator> </dc:creator>
  <dc:description/>
  <dc:language>en-US</dc:language>
  <cp:lastModifiedBy>School District U46</cp:lastModifiedBy>
  <dcterms:modified xsi:type="dcterms:W3CDTF">2011-02-07T15:19:54Z</dcterms:modified>
  <cp:revision>12</cp:revision>
  <dc:subject/>
  <dc:title>The Holocaust</dc:title>
</cp:coreProperties>
</file>